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F20-EAE3-4054-B7E7-ED4D5CC4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6F4-D7C6-47C3-B12C-1D76294D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203-CCA0-46E9-988F-3EBFC3B0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B6C-8018-4257-A194-73D26557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51D-30B8-4225-BF09-110272D3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D92-93E7-4CC7-9CD6-F3D11F9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1C4-615D-446A-9161-CBF9D58F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88F-8540-4D29-942F-FC2E2422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56F-38FA-4967-B6B9-D23724C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54B-D7DC-40B1-A84F-D579185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1C-A012-4B7B-87D1-B398D9E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EEF-1C9D-40DD-921F-9E101FC0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C03-CEDC-4352-BE7A-00211918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13360" y="676440"/>
            <a:ext cx="39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Foucaul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160" y="153180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6420f"/>
                </a:solidFill>
                <a:latin typeface="Book Antiqua"/>
              </a:rPr>
              <a:t>Hatal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2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minden emberi kapcsolat sajátossága – minden kapcsolatban van hatalmi aspektus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669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mat nem a szervezeti rendszerrel, hanem az információk egyenlőtlenségével magyará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166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dernizáció ebben a tekintetben a hatalomgyakorlási módok átalakulásának története: az ellenőrzés személytelen új formái alakulnak 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1520" y="1800360"/>
            <a:ext cx="86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ok Antiqua"/>
              </a:rPr>
              <a:t>Az ipari örökség útja a ném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ok Antiqua"/>
              </a:rPr>
              <a:t>Ruhr vidé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4400" y="3678120"/>
            <a:ext cx="4209840" cy="214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Bányák, akná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3920" y="15112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82680" y="2247840"/>
            <a:ext cx="2666880" cy="400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Deutsches Bergbaumuse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31000" y="1727280"/>
            <a:ext cx="2849400" cy="4273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04840" y="3352680"/>
            <a:ext cx="3822840" cy="2548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Maximilenp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7440" y="165096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Museum Strom und L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629080" cy="394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09800" y="3252960"/>
            <a:ext cx="3619440" cy="2911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Gaso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80240" y="170172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8440" y="2960640"/>
            <a:ext cx="2264040" cy="33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Acquarius, a víz múzeu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02400" y="1473120"/>
            <a:ext cx="3149640" cy="472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Henrichenburg zsil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03920" y="16128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6440" y="2082960"/>
            <a:ext cx="2755800" cy="413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„… </a:t>
            </a: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a szén volt az életünk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49560" y="2666880"/>
            <a:ext cx="4584960" cy="3056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cc4a16"/>
                </a:solidFill>
                <a:latin typeface="Book Antiqua"/>
              </a:rPr>
              <a:t>Westfalia-i skanz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00600" y="2755800"/>
            <a:ext cx="4127400" cy="2751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17440" y="323856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98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nem egy tulajdonság, hanem komplex stratégiai szituáció, változó erőviszonyokk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2386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alapja a tudás másokhoz képest fennálló relatív szintje – ez ad lehetőséget a helyzet befolyásolásá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3240" y="52545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minden szituációban jelen van, nem csak gazdasági vagy politikai jelen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kontroll hatal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Sör – az ipar üzemanyag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16520" y="14986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6840" y="6202440"/>
            <a:ext cx="8916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„… </a:t>
            </a:r>
            <a:r>
              <a:rPr b="1" i="1" lang="en-US" sz="4800" spc="-1" strike="noStrike">
                <a:solidFill>
                  <a:srgbClr val="cc4a16"/>
                </a:solidFill>
                <a:latin typeface="Book Antiqua"/>
              </a:rPr>
              <a:t>az ipar volt az életünk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92440" y="2298600"/>
            <a:ext cx="5657760" cy="377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1120" y="741240"/>
            <a:ext cx="90028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e6420f"/>
                </a:solidFill>
                <a:latin typeface="Book Antiqua"/>
              </a:rPr>
              <a:t>Route der Industriekul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632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az egyén pillanatnyi pozíciójából ered – nem egy stabil tulajdons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672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mi helyzetet az egyén kapcsolathálózata magyarázza (információs potenciál és befolyásolási képessé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kontroll hatal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kontroll hatal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75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személytelen, szerkezeti  sajátosság, DE a hatalom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közvetítőkön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eresztül jelenik me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578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adott helyzetben mindig valamilyen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célpontra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irányu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8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ff"/>
                </a:solidFill>
                <a:latin typeface="Book Antiqua"/>
              </a:rPr>
              <a:t>A hatalom szerkez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240" y="5369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atalom dinamikus kategória, a szerepek felcserélődhetnek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701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99ff"/>
                </a:solidFill>
                <a:latin typeface="Book Antiqua"/>
              </a:rPr>
              <a:t>Elnyomá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az egyén szintjén a közvetítő képében jelenik meg, kontroll és befolyásolás, az egyéni döntési mező beszűkülé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086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99ff"/>
                </a:solidFill>
                <a:latin typeface="Book Antiqua"/>
              </a:rPr>
              <a:t>Produktivitá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a centralizált cselekvésből adódó többletteljesítmény és/vagy a cselekvés automatizmusából adódó költségcsökken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8467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nyomó és produktív aspektusok együtt vannak j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kontroll hatal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8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ff"/>
                </a:solidFill>
                <a:latin typeface="Book Antiqua"/>
              </a:rPr>
              <a:t>A hatalom szerkez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kontroll hatal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5400" y="3460680"/>
            <a:ext cx="283860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anoptikusság elve: a láthatóság kontrollt biztosí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Börtön, kórház, áruház, térfigyelő rendszer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38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ff"/>
                </a:solidFill>
                <a:latin typeface="Book Antiqua"/>
              </a:rPr>
              <a:t>A vizualitás hata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946240" y="3564000"/>
            <a:ext cx="3097440" cy="2243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7840" y="2146320"/>
            <a:ext cx="3225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701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sta számára a legfontosabb információ a látvány – a desztináció mélyebb valóságának megismerése nem lehetsé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943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szemlélődő turista – a külső tekintet – nyomot hagy a desztináción: alkalmazkodásra késztet már a lehetősége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he tourist gaz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8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00ff"/>
                </a:solidFill>
                <a:latin typeface="Book Antiqua"/>
              </a:rPr>
              <a:t>A vizuális turisztikai tapaszta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79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it lát a turista – úgy és olyan dolgokat, melyek látására saját kultúrája és társadalma felkészítet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11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sztikai tapasztalat, érdeklődés, elvárás függ az egyénnek a strukturális és hálózati társadalomban elfoglalt helyétől: ismereteitől, lehetőségeitől, szándékaitó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turista tekintet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530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individualizálódott társadalomban a társadalmi státusz egyedi – így a turisztikai érdeklődés és tapasztalat is individualizá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ztikai tapaszt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3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Hatása a szakmá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97200"/>
            <a:ext cx="91440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ok új turisztikai attrakció az elmúlt néhány évtizedben: a hétköznapi élet minden aspektusa az érdeklődés középpontjába kerü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zmus a szabadidő –ipar egészéhez hasonlóan tematizá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urisztikai beruházások nagyságrendje növeksz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4-27T11:09:23Z</dcterms:modified>
  <cp:revision>307</cp:revision>
  <dc:subject/>
  <dc:title>1. dia</dc:title>
</cp:coreProperties>
</file>